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5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8.gif" ContentType="image/gif"/>
  <Override PartName="/ppt/media/image19.wmf" ContentType="image/x-wmf"/>
  <Override PartName="/ppt/media/image18.png" ContentType="image/png"/>
  <Override PartName="/ppt/media/image6.jpeg" ContentType="image/jpeg"/>
  <Override PartName="/ppt/media/image21.wmf" ContentType="image/x-wmf"/>
  <Override PartName="/ppt/media/image36.gif" ContentType="image/gif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12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82D-47D2-40E3-8E6D-A0AEB412B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23B-22CD-41A7-A2DE-33EC8189C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6835-03CA-4AD3-A676-850AA069D0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F48-24E1-46C2-B898-DE6A04A581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7646-A7D0-4333-B4AD-E1B79CC6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A228-CCF8-4F2B-9144-3B8D879EB5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B613-355C-40DA-B9CB-F021ED824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A789-445C-41F3-8EE1-D9FC7C29D4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1048-A339-4719-A54B-91770C7DDB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C8B3-CBE6-446F-BE35-0D187D19D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CE9-594F-4724-8EEC-FEACF06E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4A0-FBF8-4C84-B65E-0C4E4CDF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E70-F79D-4E0D-909E-9CE4157B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C4E-D740-4328-A4CB-4C46D573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6BE8F-0459-47FA-9588-0303E4BD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100E-C5EC-455A-91EA-5AEEA776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E17E-80D1-41BC-8C3B-D3088656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FBE0-62D0-487E-82DD-2BABDB2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11191-0FB3-42DD-B825-69D2D72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C3B6B-57A3-4EC2-86D6-E307286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0CA7D-47E6-4B10-B279-77DDCC06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A1465-1F18-480C-B11F-C70BD691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0A73A-6927-499C-B32C-A8D07D6F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B10D2-2073-49FF-89C5-BBB82CA5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460-55E3-44FF-82FB-73862F0C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F9FA-510B-4438-95BA-E900DEA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A24EE-A23C-45B4-BCE2-5B2292A1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5204-6378-4851-B0CB-5A132D7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DF34F-FD20-4E70-B13A-683D885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6FF9D-87C9-450D-8B06-FE13C19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9DA6C-F826-4303-820C-C7A2937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AA824-DCBB-4DB2-8ED3-B4CF6D5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58144-FE06-40B2-8DFD-AA2D434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C8C1B-7086-4106-8FE3-9491FDF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C2F0B-217C-4523-9772-14A6A81C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0CB-9F49-45B8-9EED-3D8D4F88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4B90-AFEC-4912-81E8-973A91D2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5D5B-2A62-43CD-8994-4FAC3E8E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124A-709D-4A7A-9AE2-A1741B6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DC668-0636-4898-903F-39EE235F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14A9B-E369-40BD-80C9-6303F5EF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23CA-52AF-4EAE-A813-3BA5B4C3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2771F-7776-4C72-B6F7-CAED2C7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9BC13-AAF9-48D4-B9BB-EBB0BE7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C840-E1B8-4331-94C6-B46FFFC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743E-A431-456D-BC2C-D323928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CDF-5ACA-45AF-9309-61C89BB7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7184E-319D-4324-A37A-9DADD11A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1C83-AD75-480A-878F-5FDC2556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A814-4554-4165-B603-DFB9C903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5FAA9-AB99-4889-B0BE-1721A22E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AD256-2849-466B-81AB-28D67528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03C5A-B1FB-418E-A839-65F95CC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6783-BBF0-45AB-81AA-9B76741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6A87B-68EB-4283-B4E5-B7BA9F05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B70FE-2550-424C-A5A4-FF98D9A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51BC1-A3F4-4C26-B6E1-3846CA03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9796-3F4F-4CD3-88A3-283650A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F3045-C9FF-4D40-8EEE-2616498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22881-BBF4-4606-960B-BBD412F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7DBE0-69E0-448E-BEA9-E230CD6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D314F-7173-4F87-9B6D-59EB2D94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3B319-49AC-48FA-8E4F-2DBFD042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6495B-4753-4611-ADB3-BA69C521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01828-777F-4909-80EC-68F7DBEB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F285B-3424-4990-92CA-2990B4D0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A22C0-0E35-4325-AECB-511BF2AE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75F2A-D34A-4F26-89F7-7499106F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3AB-C60D-410E-9584-2BE10A4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EFAC1-422A-451A-A238-93307E1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3D9C0-F325-4432-AB0D-0C7FDB4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D534-0A31-408B-8172-8CBFE40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A8F38-14D6-40C8-9C34-CD5D4B5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09C57-AB47-4C98-9B84-74D06968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84BC5-D8F2-4BA8-BB29-8166FB13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BF858-E93D-4B56-9C1B-C14D5D3B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0989-60DE-454A-B00C-3C6ECC2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DCD-6FB9-4053-9589-C870D3A1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445-53FD-4336-A488-6694F11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4248-B206-4CB6-9993-190736B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E67-2818-48DF-87DC-0792C7A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BB1F-4592-499A-8D76-02DA675F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B06-F77F-4D44-AE3E-B13FA81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E04-17E5-4E1C-A589-28145BD4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A6DF-7AAD-49FC-9565-DC7C14A5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D70-6FE9-4923-9495-86FAD5B2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848F-6FF7-4233-BA65-5FAD2F5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75CF-4489-4647-AB63-C849118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2F09-6E68-4BA6-8792-CCE4E0D8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4F69-16D6-43C8-B2FF-9014EA9F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722F-B819-463D-9733-641A931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CFA-C36A-4BFA-A60B-D9FEBC8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39DA-FA6A-4D9F-977C-931E31E5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D7AA-C4F5-478B-B443-994861D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14CF-8046-4171-8820-461D3F8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F068-7B06-4BA2-9C4B-3A0C87C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2706-7E53-46E4-A91A-77C36D74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A82E-EEB0-465D-A821-DB70F1C8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3174-6052-4983-8B2C-95F08E9F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095A-F8CA-4A28-A2B3-2A0B2EA4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562E-B611-438D-B42F-35FA5A7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D81F-FC46-4607-ACF6-F456D28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54A-D209-43AF-8CD5-CD3EA408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BE3A3-E636-4C91-990C-4932CD5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305F-AD91-4908-B581-80802BD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6B10-9465-44A4-8A2B-D1952C2F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4C84-7CF5-4A89-993F-630CE11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6569D-83E6-4D57-A24F-5273AAF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A8BA-A0CC-4AFE-8743-9E630CB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B371-B363-4EED-BC16-535BB577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EE94-0C96-4F75-BB61-C41BA121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A07F-0A53-4A17-BA2E-9A296C21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9749-3020-458D-834B-77A43356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AF1-9CFA-41F6-BABE-1229A34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0948-C2EB-4840-BE5D-ACCCD59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FE73-6A79-474F-B6E6-ADAD608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4E8E-B480-4B2B-8F33-CE92831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4D3A-2431-4A28-A9D0-8923C26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1653-737D-4FFD-85C1-C7017C0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5B474-687A-4281-A334-6FCAB98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D59C-65D9-45C0-B40D-B55670A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5A3E-6817-476F-A91A-D87C5B1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7F85-BE73-4DD6-AACC-94652D6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FD55-33BE-4291-BA9D-D08B93E1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8C6-5AA9-4B51-B817-D79C633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DA27-21C9-4BF6-AEB5-276BDCB8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BF45-BA1E-4E1D-8F19-40420106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0A6DB-2EC8-45FD-8108-EA7B7D60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73E1-C165-440E-9E4D-9D97D8C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0948-E900-4795-A62F-08A71F6D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0A0F-D8B6-4D13-930C-AC930E3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213B-622F-4EEF-9B40-8640492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6032-020A-4B30-A05B-03DF3CE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1C7B-A412-46FC-BF25-64E1DD56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562FB-E72D-4573-952C-F7FC0BD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C75-90C6-4385-932A-6561C7A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263C-0086-4A2E-9F64-631C41E6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B7BD9-17B2-4EBC-A818-8AD2E93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36BD-136F-41AA-A212-84BB4FA3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9263-3CF6-4EF4-9D64-D350CDA2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9962-E708-461B-83B8-0A0F0179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FB1C-8BCA-4E46-BC35-63CBB767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5DDD-335D-4387-A33D-F3667FF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0B1A-EF6C-4174-ACA5-FED390C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59269-CBF5-44CA-AD3D-C8DBA1A2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CD71-937B-4BC7-A1D6-8EFC8DE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C85-39D7-446A-9B6D-D14999E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926C-922F-415F-BB06-78A84BC0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D1C23-AE84-4C32-A270-DC11E10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32F1B-BE83-47C8-AF7D-9065364E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7B8E4-BF12-43BE-BD13-5F388119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0182-EEC5-447D-9E78-715E8D71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77D6-2186-4558-8EBF-46329137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1E7C-3221-4D5A-994E-ECF86E77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BA72-22C9-482A-A7F4-5A7D3E4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5FB3-B9F0-42B2-B498-2D7B9BC7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6A6F-E444-434C-A506-6E8B3DF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0B3-C854-4544-8049-0915339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9CE7-A76E-49BD-9A58-B7133994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2932C-7764-4E5D-AC2A-D7FB7F1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54A12-0E6B-4D57-8980-7834EF1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7A27-BD80-4525-9A22-CD5B57F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AFFDB-898B-48B2-A647-4F2FE7C7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88993-AEAB-45D0-9AFB-35D49FE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417F-46FF-48B7-B324-9FEC84DE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D7077-96C0-4E6E-89AE-732B5D90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BD53-7B4B-40FB-8F2E-9BE95046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EAB6C-B431-4E3A-A9FD-8C2C08F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EE5-4B32-4300-B5E8-4AE592C33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FCD7-DF02-4035-92E9-C55AE9D7E00A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456-19E2-46F8-92D3-C97737350ADF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BD5-9D73-4762-BA27-F5F7C1343965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A15-14A8-464D-8A3B-6287D6EDB768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00E-DC84-41B7-8797-CFBF60C5075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413-D89F-4CAF-9799-E0D13F024DF3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5976-7E7A-4541-AFA7-B22E29C30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7CC-1D2A-4117-A043-E4C10562D6B9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D1A-3A45-441B-9B74-97770E45D02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67F0-7D1E-427E-8F4A-C5B07741B42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3B83-D9C3-468C-BC25-A97AE6C5EC4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41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617-3D0E-471B-BCE7-3E5F903B84A2}" type="slidenum">
              <a:rPr b="0" lang="en-US" sz="1000" spc="-1" strike="noStrike">
                <a:solidFill>
                  <a:srgbClr val="3741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schoolmathematics.ru/wp-content/uploads/2011/01/161.png" TargetMode="External"/><Relationship Id="rId3" Type="http://schemas.openxmlformats.org/officeDocument/2006/relationships/image" Target="../media/image32.png"/><Relationship Id="rId4" Type="http://schemas.openxmlformats.org/officeDocument/2006/relationships/hyperlink" Target="http://schoolmathematics.ru/wp-content/uploads/2011/01/201.png" TargetMode="External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4BC-2EE8-4E2B-84B5-DDE3B4D1F6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28760" y="1785960"/>
            <a:ext cx="82152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15</a:t>
            </a: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.03.2023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В мире форму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сокращ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у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1643040" y="4357800"/>
            <a:ext cx="7101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1571760" y="285840"/>
                <a:ext cx="5429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7"/>
              <p:cNvSpPr txBox="1"/>
              <p:nvPr/>
            </p:nvSpPr>
            <p:spPr>
              <a:xfrm>
                <a:off x="4251240" y="979560"/>
                <a:ext cx="4708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5"/>
              <p:cNvSpPr txBox="1"/>
              <p:nvPr/>
            </p:nvSpPr>
            <p:spPr>
              <a:xfrm>
                <a:off x="1571760" y="5429160"/>
                <a:ext cx="55576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6"/>
              <p:cNvSpPr txBox="1"/>
              <p:nvPr/>
            </p:nvSpPr>
            <p:spPr>
              <a:xfrm>
                <a:off x="214200" y="4572000"/>
                <a:ext cx="4629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86" name="Picture 67" descr="Рисунок12"/>
          <p:cNvPicPr/>
          <p:nvPr/>
        </p:nvPicPr>
        <p:blipFill>
          <a:blip r:embed="rId1"/>
          <a:stretch/>
        </p:blipFill>
        <p:spPr>
          <a:xfrm>
            <a:off x="7429680" y="4929120"/>
            <a:ext cx="1533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Calibri"/>
              </a:rPr>
              <a:t>Выбери правильный 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4" name="Picture 20" descr="TEACHER1"/>
          <p:cNvPicPr/>
          <p:nvPr/>
        </p:nvPicPr>
        <p:blipFill>
          <a:blip r:embed="rId1"/>
          <a:stretch/>
        </p:blipFill>
        <p:spPr>
          <a:xfrm>
            <a:off x="466560" y="5429160"/>
            <a:ext cx="14414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5" name=""/>
          <p:cNvGraphicFramePr/>
          <p:nvPr/>
        </p:nvGraphicFramePr>
        <p:xfrm>
          <a:off x="468360" y="2133720"/>
          <a:ext cx="3038400" cy="2303280"/>
        </p:xfrm>
        <a:graphic>
          <a:graphicData uri="http://schemas.openxmlformats.org/drawingml/2006/table">
            <a:tbl>
              <a:tblPr/>
              <a:tblGrid>
                <a:gridCol w="3038400"/>
              </a:tblGrid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x-3y)(2x+3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84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2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4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6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4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4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9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5292720" y="3500280"/>
          <a:ext cx="3240000" cy="24498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x-1)(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x+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5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x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42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611280" y="2276640"/>
          <a:ext cx="3529080" cy="25923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х+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6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6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6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х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Calibri"/>
              </a:rPr>
              <a:t>Выбери правильный 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435640" y="4149720"/>
          <a:ext cx="3384360" cy="25210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а+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(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9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9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6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650" name="Picture 20" descr="TEACHER1"/>
          <p:cNvPicPr/>
          <p:nvPr/>
        </p:nvPicPr>
        <p:blipFill>
          <a:blip r:embed="rId1"/>
          <a:stretch/>
        </p:blipFill>
        <p:spPr>
          <a:xfrm>
            <a:off x="6012000" y="2781360"/>
            <a:ext cx="1441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Calibri"/>
              </a:rPr>
              <a:t>Выбери правильный 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2" name="Picture 20" descr="TEACHER1"/>
          <p:cNvPicPr/>
          <p:nvPr/>
        </p:nvPicPr>
        <p:blipFill>
          <a:blip r:embed="rId1"/>
          <a:stretch/>
        </p:blipFill>
        <p:spPr>
          <a:xfrm>
            <a:off x="466560" y="5429160"/>
            <a:ext cx="14414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"/>
          <p:cNvGraphicFramePr/>
          <p:nvPr/>
        </p:nvGraphicFramePr>
        <p:xfrm>
          <a:off x="468360" y="2133720"/>
          <a:ext cx="3389400" cy="2303280"/>
        </p:xfrm>
        <a:graphic>
          <a:graphicData uri="http://schemas.openxmlformats.org/drawingml/2006/table">
            <a:tbl>
              <a:tblPr/>
              <a:tblGrid>
                <a:gridCol w="3389400"/>
              </a:tblGrid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+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-5а+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84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+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+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-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55a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5292720" y="3500280"/>
          <a:ext cx="3240000" cy="24498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а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5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25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30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9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25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9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25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0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9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-25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30a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b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42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Помни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(-a-b)</a:t>
            </a:r>
            <a:r>
              <a:rPr b="0" i="1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 = (a+b)</a:t>
            </a:r>
            <a:r>
              <a:rPr b="0" i="1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-a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= a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-a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+ 2(-a)(-b)+(-b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= 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= (a+b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a-b)</a:t>
            </a:r>
            <a:r>
              <a:rPr b="0" i="1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 = (b-a)</a:t>
            </a:r>
            <a:r>
              <a:rPr b="0" i="1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2ab+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= 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2ba+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ЙДИТЕ  ОШИБК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71680" y="214272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ву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с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р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а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"/>
          <p:cNvSpPr/>
          <p:nvPr/>
        </p:nvSpPr>
        <p:spPr>
          <a:xfrm>
            <a:off x="4431960" y="1643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4790520" y="271476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7929720" y="3714840"/>
            <a:ext cx="57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6"/>
          <p:cNvSpPr/>
          <p:nvPr/>
        </p:nvSpPr>
        <p:spPr>
          <a:xfrm>
            <a:off x="5933160" y="485784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14200" y="1357200"/>
          <a:ext cx="8501040" cy="492948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4929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а р и а н т  1.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йдите значение  выражения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 х = 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ложите  на  множител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Заменить * одночленом так, чтобы получилось тождество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225c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= (m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 *)(*+m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20b+*=(*+*)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а р и а н т  2.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йдите значение  выражения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 х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ложите  на  множител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Заменить * одночленом так, чтобы получилось тождество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5x+*)(5x- *)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=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* - 0,16y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+14b+49 =(*+*)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5" name="Object 6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2143440" cy="46368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5" descr=""/>
          <p:cNvPicPr/>
          <p:nvPr/>
        </p:nvPicPr>
        <p:blipFill>
          <a:blip r:embed="rId2"/>
          <a:srcRect l="0" t="2015" r="53592" b="-1940"/>
          <a:stretch/>
        </p:blipFill>
        <p:spPr>
          <a:xfrm>
            <a:off x="395280" y="2800440"/>
            <a:ext cx="1655640" cy="92844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4" descr=""/>
          <p:cNvPicPr/>
          <p:nvPr/>
        </p:nvPicPr>
        <p:blipFill>
          <a:blip r:embed="rId3"/>
          <a:stretch/>
        </p:blipFill>
        <p:spPr>
          <a:xfrm>
            <a:off x="714240" y="2000160"/>
            <a:ext cx="1927440" cy="432000"/>
          </a:xfrm>
          <a:prstGeom prst="rect">
            <a:avLst/>
          </a:prstGeom>
          <a:ln w="0">
            <a:noFill/>
          </a:ln>
        </p:spPr>
      </p:pic>
      <p:pic>
        <p:nvPicPr>
          <p:cNvPr id="668" name="Object 3" descr=""/>
          <p:cNvPicPr/>
          <p:nvPr/>
        </p:nvPicPr>
        <p:blipFill>
          <a:blip r:embed="rId4"/>
          <a:srcRect l="0" t="0" r="57124" b="0"/>
          <a:stretch/>
        </p:blipFill>
        <p:spPr>
          <a:xfrm>
            <a:off x="4788000" y="2835360"/>
            <a:ext cx="1439640" cy="857160"/>
          </a:xfrm>
          <a:prstGeom prst="rect">
            <a:avLst/>
          </a:prstGeom>
          <a:ln w="0">
            <a:noFill/>
          </a:ln>
        </p:spPr>
      </p:pic>
      <p:pic>
        <p:nvPicPr>
          <p:cNvPr id="669" name="Рисунок 1" descr=""/>
          <p:cNvPicPr/>
          <p:nvPr/>
        </p:nvPicPr>
        <p:blipFill>
          <a:blip r:embed="rId5"/>
          <a:srcRect l="52770" t="0" r="0" b="43921"/>
          <a:stretch/>
        </p:blipFill>
        <p:spPr>
          <a:xfrm>
            <a:off x="2050920" y="2762280"/>
            <a:ext cx="1676520" cy="522360"/>
          </a:xfrm>
          <a:prstGeom prst="rect">
            <a:avLst/>
          </a:prstGeom>
          <a:ln w="0">
            <a:noFill/>
          </a:ln>
        </p:spPr>
      </p:pic>
      <p:pic>
        <p:nvPicPr>
          <p:cNvPr id="670" name="Рисунок 3" descr=""/>
          <p:cNvPicPr/>
          <p:nvPr/>
        </p:nvPicPr>
        <p:blipFill>
          <a:blip r:embed="rId6"/>
          <a:srcRect l="47165" t="0" r="0" b="37327"/>
          <a:stretch/>
        </p:blipFill>
        <p:spPr>
          <a:xfrm>
            <a:off x="6553080" y="2841480"/>
            <a:ext cx="1774800" cy="53820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5" descr=""/>
          <p:cNvPicPr/>
          <p:nvPr/>
        </p:nvPicPr>
        <p:blipFill>
          <a:blip r:embed="rId7"/>
          <a:srcRect l="0" t="2015" r="53592" b="-1940"/>
          <a:stretch/>
        </p:blipFill>
        <p:spPr>
          <a:xfrm>
            <a:off x="395280" y="2820960"/>
            <a:ext cx="16556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F07-C4EB-4635-A4C0-693F3B56FE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428760" y="-712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3"/>
          <p:cNvSpPr/>
          <p:nvPr/>
        </p:nvSpPr>
        <p:spPr>
          <a:xfrm flipH="1">
            <a:off x="4570560" y="1285920"/>
            <a:ext cx="2880" cy="51451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142920" y="15717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5"/>
          <p:cNvSpPr/>
          <p:nvPr/>
        </p:nvSpPr>
        <p:spPr>
          <a:xfrm>
            <a:off x="4643280" y="15717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5"/>
          <p:cNvSpPr/>
          <p:nvPr/>
        </p:nvSpPr>
        <p:spPr>
          <a:xfrm>
            <a:off x="278640" y="2143080"/>
            <a:ext cx="41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5555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а³-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125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а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 (а²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25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64+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³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4+x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6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4x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в) а</a:t>
            </a:r>
            <a:r>
              <a:rPr b="1" lang="en-US" sz="2400" spc="-1" strike="noStrike" baseline="30000">
                <a:solidFill>
                  <a:srgbClr val="555555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81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а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 (а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25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0b+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8"/>
          <p:cNvSpPr/>
          <p:nvPr/>
        </p:nvSpPr>
        <p:spPr>
          <a:xfrm>
            <a:off x="2172600" y="5000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.                       2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4605120" y="2143080"/>
            <a:ext cx="449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5555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³-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64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4)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²+4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б) 27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³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+a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a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25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а</a:t>
            </a:r>
            <a:r>
              <a:rPr b="1" lang="en-US" sz="2400" spc="-1" strike="noStrike" baseline="30000">
                <a:solidFill>
                  <a:srgbClr val="555555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)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x+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4y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5x-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4y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5x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,16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4b+49 = (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229600" cy="31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применяютс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лы сокращенного умно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24000" y="2420640"/>
            <a:ext cx="87120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и упрощении выра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и разложении выражений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и решении урав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и доказательстве тождест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3851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rebuchet MS"/>
              </a:rPr>
              <a:t>Расширение знаний по формулам сокращенного умнож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BDD-154B-4E05-8A8D-682EA0AC397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2"/>
          <p:cNvSpPr/>
          <p:nvPr/>
        </p:nvSpPr>
        <p:spPr>
          <a:xfrm>
            <a:off x="2627280" y="126828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лодные числа, внешне сухие формулы математики полны внутренней красоты сконцентрированной в них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Д. Алексан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11280" y="2565360"/>
            <a:ext cx="4753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У математиков существует свой язык – это формулы»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С.В. Ковалевск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4530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612720" y="1619280"/>
            <a:ext cx="3456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355-8729-4DFF-8FF0-28C333D7404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3" descr="https://fsd.multiurok.ru/html/2018/03/15/s_5aaac5c5f2ba6/img4.jpg"/>
          <p:cNvPicPr/>
          <p:nvPr/>
        </p:nvPicPr>
        <p:blipFill>
          <a:blip r:embed="rId1"/>
          <a:stretch/>
        </p:blipFill>
        <p:spPr>
          <a:xfrm>
            <a:off x="324000" y="189000"/>
            <a:ext cx="8064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Изобразить формулу </a:t>
            </a:r>
            <a:r>
              <a:rPr b="1" lang="ru-RU" sz="3800" spc="-1" strike="noStrike">
                <a:solidFill>
                  <a:srgbClr val="0000ff"/>
                </a:solidFill>
                <a:latin typeface="Arial"/>
                <a:ea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(а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b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 = 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 + 2ab 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3600" spc="-1" strike="noStrike">
                <a:solidFill>
                  <a:srgbClr val="336666"/>
                </a:solidFill>
                <a:latin typeface="Tahoma"/>
                <a:ea typeface="Tahoma"/>
              </a:rPr>
              <a:t> </a:t>
            </a:r>
            <a:br>
              <a:rPr sz="4000"/>
            </a:b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геометрически можно так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89" name="Google Shape;808;p45" descr=""/>
          <p:cNvPicPr/>
          <p:nvPr/>
        </p:nvPicPr>
        <p:blipFill>
          <a:blip r:embed="rId1"/>
          <a:stretch/>
        </p:blipFill>
        <p:spPr>
          <a:xfrm>
            <a:off x="1835280" y="2122560"/>
            <a:ext cx="478296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8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alibri"/>
              </a:rPr>
              <a:t>(а + </a:t>
            </a:r>
            <a:r>
              <a:rPr b="1" lang="en-US" sz="5400" spc="-1" strike="noStrike">
                <a:solidFill>
                  <a:srgbClr val="3333cc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3333cc"/>
                </a:solidFill>
                <a:latin typeface="Calibri"/>
              </a:rPr>
              <a:t> + с)</a:t>
            </a:r>
            <a:r>
              <a:rPr b="1" lang="ru-RU" sz="5400" spc="-1" strike="noStrike" baseline="30000">
                <a:solidFill>
                  <a:srgbClr val="3333cc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3333cc"/>
                </a:solidFill>
                <a:latin typeface="Calibri"/>
              </a:rPr>
              <a:t> =</a:t>
            </a:r>
            <a:r>
              <a:rPr b="1" lang="ru-RU" sz="4000" spc="-1" strike="noStrike">
                <a:solidFill>
                  <a:srgbClr val="3333cc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а</a:t>
            </a:r>
            <a:r>
              <a:rPr b="1" lang="ru-RU" sz="4400" spc="-1" strike="noStrike" baseline="30000">
                <a:solidFill>
                  <a:srgbClr val="3333cc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 + </a:t>
            </a:r>
            <a:r>
              <a:rPr b="1" lang="en-US" sz="4400" spc="-1" strike="noStrike">
                <a:solidFill>
                  <a:srgbClr val="3333cc"/>
                </a:solidFill>
                <a:latin typeface="Calibri"/>
              </a:rPr>
              <a:t>b</a:t>
            </a:r>
            <a:r>
              <a:rPr b="1" lang="ru-RU" sz="4400" spc="-1" strike="noStrike" baseline="30000">
                <a:solidFill>
                  <a:srgbClr val="3333cc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 + с</a:t>
            </a:r>
            <a:r>
              <a:rPr b="1" lang="ru-RU" sz="4400" spc="-1" strike="noStrike" baseline="30000">
                <a:solidFill>
                  <a:srgbClr val="3333cc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 + 2а</a:t>
            </a:r>
            <a:r>
              <a:rPr b="1" lang="en-US" sz="4400" spc="-1" strike="noStrike">
                <a:solidFill>
                  <a:srgbClr val="3333cc"/>
                </a:solidFill>
                <a:latin typeface="Calibri"/>
              </a:rPr>
              <a:t>b</a:t>
            </a: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 + 2ас + 2</a:t>
            </a:r>
            <a:r>
              <a:rPr b="1" lang="en-US" sz="4400" spc="-1" strike="noStrike">
                <a:solidFill>
                  <a:srgbClr val="3333cc"/>
                </a:solidFill>
                <a:latin typeface="Calibri"/>
              </a:rPr>
              <a:t>b</a:t>
            </a: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Calibri"/>
              </a:rPr>
              <a:t>Геометрическое доказатель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4" descr="Безымянный"/>
          <p:cNvPicPr/>
          <p:nvPr/>
        </p:nvPicPr>
        <p:blipFill>
          <a:blip r:embed="rId1"/>
          <a:stretch/>
        </p:blipFill>
        <p:spPr>
          <a:xfrm>
            <a:off x="2409840" y="2602080"/>
            <a:ext cx="40338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оект №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учиться возводить в квадрат сумму трёх, четырёх, и т.д. слагаем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d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+d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(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а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в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254061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823634"/>
                </a:solidFill>
                <a:latin typeface="Calibri"/>
              </a:rPr>
              <a:t>(</a:t>
            </a:r>
            <a:r>
              <a:rPr b="0" lang="ru-RU" sz="4400" spc="-1" strike="noStrike">
                <a:solidFill>
                  <a:srgbClr val="823634"/>
                </a:solidFill>
                <a:latin typeface="Calibri"/>
              </a:rPr>
              <a:t>а</a:t>
            </a:r>
            <a:r>
              <a:rPr b="0" lang="en-US" sz="4400" spc="-1" strike="noStrike">
                <a:solidFill>
                  <a:srgbClr val="823634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823634"/>
                </a:solidFill>
                <a:latin typeface="Calibri"/>
              </a:rPr>
              <a:t>в</a:t>
            </a:r>
            <a:r>
              <a:rPr b="0" lang="en-US" sz="4400" spc="-1" strike="noStrike">
                <a:solidFill>
                  <a:srgbClr val="823634"/>
                </a:solidFill>
                <a:latin typeface="Calibri"/>
              </a:rPr>
              <a:t>+</a:t>
            </a:r>
            <a:r>
              <a:rPr b="0" lang="ru-RU" sz="4400" spc="-1" strike="noStrike">
                <a:solidFill>
                  <a:srgbClr val="823634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823634"/>
                </a:solidFill>
                <a:latin typeface="Calibri"/>
              </a:rPr>
              <a:t>+d+ e+k)</a:t>
            </a:r>
            <a:r>
              <a:rPr b="0" lang="en-US" sz="4400" spc="-1" strike="noStrike" baseline="30000">
                <a:solidFill>
                  <a:srgbClr val="823634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823634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6C07-B8B8-425A-AA53-335CE894F4D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зводить в квадрат сумму трёх, четырёх, и более слагаем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0" y="1600200"/>
            <a:ext cx="950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b+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d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+ b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+ d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(a+ b)</a:t>
            </a:r>
            <a:r>
              <a:rPr b="0" lang="en-US" sz="4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2(a+ b)(c+ 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+(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+ d)</a:t>
            </a:r>
            <a:r>
              <a:rPr b="0" lang="en-US" sz="4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+ 2ab+ b</a:t>
            </a:r>
            <a:r>
              <a:rPr b="0" lang="en-US" sz="36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2ac+ 2ad+ 2bc+ 2b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c</a:t>
            </a:r>
            <a:r>
              <a:rPr b="0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+ 2cd+ d</a:t>
            </a:r>
            <a:r>
              <a:rPr b="0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b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c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572423"/>
                </a:solidFill>
                <a:latin typeface="Calibri"/>
              </a:rPr>
              <a:t>2ab+2ac+2ad+2bc+2bd+2c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B4AB-0FB4-4753-A432-E59B39FD9B0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360" y="1214280"/>
            <a:ext cx="88930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а +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+ с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d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+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+c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+d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+2ab+2ac+2ad+2bc+2bd+2c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2785680"/>
            <a:ext cx="868680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ВОД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вадрат суммы трёх, четырёх и более чисел равен сумме квадратов каждого из этих чисел плюс удвоенные произведения каждого из этих чисел на числа, следующие за ним</a:t>
            </a:r>
            <a:r>
              <a:rPr b="0" i="1" lang="en-US" sz="36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числите: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(3х+4у+5z)</a:t>
            </a:r>
            <a:r>
              <a:rPr b="0" lang="ru-RU" sz="6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=9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x</a:t>
            </a:r>
            <a:r>
              <a:rPr b="0" lang="ru-RU" sz="4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+16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y</a:t>
            </a:r>
            <a:r>
              <a:rPr b="0" lang="ru-RU" sz="4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+25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z</a:t>
            </a:r>
            <a:r>
              <a:rPr b="0" lang="ru-RU" sz="4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+24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xy</a:t>
            </a: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+30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xz</a:t>
            </a: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+ 40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y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5DF2-3BDD-4074-94E1-4140EAF04A0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оект № 2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возводить двучлен в любую натуральную степен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C8AC-5598-4171-85D0-61DEE9BCC05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 Black"/>
              </a:rPr>
              <a:t>Рассмотрим двучле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14200" y="1785960"/>
            <a:ext cx="48578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(а +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Medium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(a + 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= </a:t>
            </a:r>
            <a:r>
              <a:rPr b="0" lang="ru-RU" sz="40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 +</a:t>
            </a:r>
            <a:r>
              <a:rPr b="0" lang="ru-RU" sz="40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(a + 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=</a:t>
            </a:r>
            <a:r>
              <a:rPr b="0" lang="ru-RU" sz="32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+ </a:t>
            </a:r>
            <a:r>
              <a:rPr b="0" lang="en-US" sz="3200" spc="-1" strike="noStrike">
                <a:solidFill>
                  <a:srgbClr val="7f7f7f"/>
                </a:solidFill>
                <a:latin typeface="Franklin Gothic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ab +</a:t>
            </a:r>
            <a:r>
              <a:rPr b="0" lang="ru-RU" sz="32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=</a:t>
            </a:r>
            <a:r>
              <a:rPr b="0" lang="ru-RU" sz="28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+ </a:t>
            </a:r>
            <a:r>
              <a:rPr b="0" lang="en-US" sz="2800" spc="-1" strike="noStrike">
                <a:solidFill>
                  <a:srgbClr val="7f7f7f"/>
                </a:solidFill>
                <a:latin typeface="Franklin Gothic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 + </a:t>
            </a:r>
            <a:r>
              <a:rPr b="0" lang="en-US" sz="2800" spc="-1" strike="noStrike">
                <a:solidFill>
                  <a:srgbClr val="7f7f7f"/>
                </a:solidFill>
                <a:latin typeface="Franklin Gothic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+ </a:t>
            </a:r>
            <a:r>
              <a:rPr b="0" lang="ru-RU" sz="2800" spc="-1" strike="noStrike">
                <a:solidFill>
                  <a:srgbClr val="7f7f7f"/>
                </a:solidFill>
                <a:latin typeface="Franklin Gothic Mediu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Medium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85840" y="121428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Составим таблицу из их коэффици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785840" y="18572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 2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 3 3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5400" spc="-1" strike="noStrike">
                <a:solidFill>
                  <a:srgbClr val="254061"/>
                </a:solidFill>
                <a:latin typeface="Calibri"/>
              </a:rPr>
              <a:t>a+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254061"/>
                </a:solidFill>
                <a:latin typeface="Calibri"/>
              </a:rPr>
              <a:t>b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5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5400" spc="-1" strike="noStrike">
                <a:solidFill>
                  <a:srgbClr val="632523"/>
                </a:solidFill>
                <a:latin typeface="Calibri"/>
              </a:rPr>
              <a:t>a+ b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5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= (</a:t>
            </a:r>
            <a:r>
              <a:rPr b="0" lang="en-US" sz="5400" spc="-1" strike="noStrike">
                <a:solidFill>
                  <a:srgbClr val="17375e"/>
                </a:solidFill>
                <a:latin typeface="Calibri"/>
              </a:rPr>
              <a:t>a</a:t>
            </a:r>
            <a:r>
              <a:rPr b="0" lang="en-US" sz="5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17375e"/>
                </a:solidFill>
                <a:latin typeface="Calibri"/>
              </a:rPr>
              <a:t>+ 2ab+ b</a:t>
            </a:r>
            <a:r>
              <a:rPr b="0" lang="en-US" sz="5400" spc="-1" strike="noStrike" baseline="30000">
                <a:solidFill>
                  <a:srgbClr val="17375e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5400" spc="-1" strike="noStrike">
                <a:solidFill>
                  <a:srgbClr val="632523"/>
                </a:solidFill>
                <a:latin typeface="Calibri"/>
              </a:rPr>
              <a:t>a</a:t>
            </a:r>
            <a:r>
              <a:rPr b="0" lang="en-US" sz="5400" spc="-1" strike="noStrike" baseline="30000">
                <a:solidFill>
                  <a:srgbClr val="632523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632523"/>
                </a:solidFill>
                <a:latin typeface="Calibri"/>
              </a:rPr>
              <a:t>+ 2ab+ b</a:t>
            </a:r>
            <a:r>
              <a:rPr b="0" lang="en-US" sz="5400" spc="-1" strike="noStrike" baseline="30000">
                <a:solidFill>
                  <a:srgbClr val="632523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+4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+ 6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a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+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B28-6ADE-4465-B651-462678E0414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Какие формулы сокращенного умножения Вы знает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ED43-7A52-43A1-9B47-E98BA395BF9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7" descr="Рисунок12"/>
          <p:cNvPicPr/>
          <p:nvPr/>
        </p:nvPicPr>
        <p:blipFill>
          <a:blip r:embed="rId1"/>
          <a:stretch/>
        </p:blipFill>
        <p:spPr>
          <a:xfrm>
            <a:off x="7215120" y="492912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A41E-50AA-4B75-A1AC-1C90EFD3768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Блез Паскаль (1623 – 1662)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7" descr="https://cf.ppt-online.org/files/slide/y/yd8bLRq0oJTHrleXvIxYWK3h5C49Df6pjtFSzM/slide-2.jpg"/>
          <p:cNvPicPr/>
          <p:nvPr/>
        </p:nvPicPr>
        <p:blipFill>
          <a:blip r:embed="rId1"/>
          <a:stretch/>
        </p:blipFill>
        <p:spPr>
          <a:xfrm>
            <a:off x="0" y="1571760"/>
            <a:ext cx="5580000" cy="4881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pp_015"/>
          <p:cNvPicPr/>
          <p:nvPr/>
        </p:nvPicPr>
        <p:blipFill>
          <a:blip r:embed="rId2"/>
          <a:stretch/>
        </p:blipFill>
        <p:spPr>
          <a:xfrm>
            <a:off x="5781600" y="1571760"/>
            <a:ext cx="290520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800080"/>
                </a:solidFill>
                <a:latin typeface="Comic Sans MS"/>
              </a:rPr>
              <a:t>Вычисление квадрата числ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Заголовок 1" descr=""/>
          <p:cNvPicPr/>
          <p:nvPr/>
        </p:nvPicPr>
        <p:blipFill>
          <a:blip r:embed="rId1"/>
          <a:stretch/>
        </p:blipFill>
        <p:spPr>
          <a:xfrm>
            <a:off x="-103320" y="822240"/>
            <a:ext cx="7626600" cy="2633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0" y="1699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Рисунок 3" descr="http://schoolmathematics.ru/wp-content/uploads/2011/01/16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2071800"/>
            <a:ext cx="4500360" cy="3781440"/>
          </a:xfrm>
          <a:prstGeom prst="rect">
            <a:avLst/>
          </a:prstGeom>
          <a:ln w="0">
            <a:noFill/>
          </a:ln>
        </p:spPr>
      </p:pic>
      <p:pic>
        <p:nvPicPr>
          <p:cNvPr id="728" name="Рисунок 4" descr="http://schoolmathematics.ru/wp-content/uploads/2011/01/201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214720"/>
            <a:ext cx="41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= а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(a – b)(a + b)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дополнение числа а до круглого числа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79280" y="2852640"/>
            <a:ext cx="89647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4760" indent="-533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Lucida Console"/>
              </a:rPr>
              <a:t>Приме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533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Вычислите 986</a:t>
            </a:r>
            <a:r>
              <a:rPr b="1" lang="ru-RU" sz="40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5331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Круглое число 1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5331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= 986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= 14, а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= 1000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– b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 97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5331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986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= 972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1000 + 1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= 972000 + 196 = 97219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меняются   в  некоторых  математических  фоку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агается   кому-нибудь  задумать не  очень  большое  число  и  возвести  его    в  квадрат. К  результату   попросите  прибавить  удвоенное  задуманное  число  и  ещё  единицу. Выяснив  окончательный  результат,  вы  сможете   назвать  задуманное  число.  Как  найти задуман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ис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формула  а</a:t>
            </a: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+ 2 а + 1 = (а +1)</a:t>
            </a: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97D-15F1-43BE-93DF-76DD61E3C3F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3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28840" y="0"/>
            <a:ext cx="6286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0000ff"/>
                </a:solidFill>
                <a:latin typeface="Monotype Corsiva"/>
              </a:rPr>
              <a:t>Многочлен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"/>
          <p:cNvSpPr/>
          <p:nvPr/>
        </p:nvSpPr>
        <p:spPr>
          <a:xfrm>
            <a:off x="468360" y="1268280"/>
            <a:ext cx="8229600" cy="19051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1905120" y="19051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многочлен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219320" y="18288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Это сумма одночл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1676520" y="38098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1066680" y="28954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Monotype Corsiva"/>
                <a:ea typeface="Arial"/>
              </a:rPr>
              <a:t>Одночле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8"/>
          <p:cNvSpPr/>
          <p:nvPr/>
        </p:nvSpPr>
        <p:spPr>
          <a:xfrm>
            <a:off x="380880" y="4114800"/>
            <a:ext cx="8382240" cy="220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1828800" y="4800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дноч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1600200" y="46483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1143000" y="45720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изведение числовых и буквенных множ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Диковинные наз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29"/>
              <p:cNvSpPr txBox="1"/>
              <p:nvPr/>
            </p:nvSpPr>
            <p:spPr>
              <a:xfrm>
                <a:off x="1968480" y="2465280"/>
                <a:ext cx="101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Oval 3"/>
          <p:cNvSpPr/>
          <p:nvPr/>
        </p:nvSpPr>
        <p:spPr>
          <a:xfrm>
            <a:off x="2209680" y="2743200"/>
            <a:ext cx="4343400" cy="1676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2971800" y="3352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по- другому назвать многочл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2971800" y="31240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оч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оли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6"/>
          <p:cNvSpPr/>
          <p:nvPr/>
        </p:nvSpPr>
        <p:spPr>
          <a:xfrm flipH="1" flipV="1">
            <a:off x="2895480" y="2514600"/>
            <a:ext cx="914400" cy="53352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7"/>
          <p:cNvSpPr/>
          <p:nvPr/>
        </p:nvSpPr>
        <p:spPr>
          <a:xfrm>
            <a:off x="684360" y="1557360"/>
            <a:ext cx="2438280" cy="129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685800" y="1981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762120" y="1828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назвать одночл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914400" y="175248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член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М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1"/>
          <p:cNvSpPr/>
          <p:nvPr/>
        </p:nvSpPr>
        <p:spPr>
          <a:xfrm flipV="1">
            <a:off x="5105520" y="2743200"/>
            <a:ext cx="990360" cy="4572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5562720" y="1447920"/>
            <a:ext cx="3429000" cy="1523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624852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назвать двучл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63244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член 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Б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5"/>
          <p:cNvSpPr/>
          <p:nvPr/>
        </p:nvSpPr>
        <p:spPr>
          <a:xfrm flipH="1">
            <a:off x="2133360" y="3886200"/>
            <a:ext cx="609480" cy="2286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6"/>
          <p:cNvSpPr/>
          <p:nvPr/>
        </p:nvSpPr>
        <p:spPr>
          <a:xfrm>
            <a:off x="228600" y="3429000"/>
            <a:ext cx="1981080" cy="2362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7"/>
          <p:cNvSpPr/>
          <p:nvPr/>
        </p:nvSpPr>
        <p:spPr>
          <a:xfrm>
            <a:off x="533520" y="3809880"/>
            <a:ext cx="152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по другому можно назвать трехчл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8"/>
          <p:cNvSpPr/>
          <p:nvPr/>
        </p:nvSpPr>
        <p:spPr>
          <a:xfrm>
            <a:off x="304920" y="3886200"/>
            <a:ext cx="2035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хчле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9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2362320" y="4876920"/>
            <a:ext cx="3504960" cy="1752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2438280" y="5116680"/>
            <a:ext cx="3353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 данный многочлен, учитывая его степ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2895480" y="51055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днородный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"/>
          <p:cNvSpPr/>
          <p:nvPr/>
        </p:nvSpPr>
        <p:spPr>
          <a:xfrm>
            <a:off x="5791320" y="4114800"/>
            <a:ext cx="685800" cy="30492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4"/>
          <p:cNvSpPr/>
          <p:nvPr/>
        </p:nvSpPr>
        <p:spPr>
          <a:xfrm rot="1024800">
            <a:off x="6251040" y="3458880"/>
            <a:ext cx="2892600" cy="3398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6781680" y="3962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6"/>
          <p:cNvSpPr/>
          <p:nvPr/>
        </p:nvSpPr>
        <p:spPr>
          <a:xfrm>
            <a:off x="6781680" y="3886200"/>
            <a:ext cx="20574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многочлен такого ви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ab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6357960" y="428616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ногочлен с одной пе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8"/>
              <p:cNvSpPr txBox="1"/>
              <p:nvPr/>
            </p:nvSpPr>
            <p:spPr>
              <a:xfrm>
                <a:off x="2819520" y="5867280"/>
                <a:ext cx="2590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4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18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8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0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9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2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6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1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Рисунок 2" descr="36.gif"/>
          <p:cNvPicPr/>
          <p:nvPr/>
        </p:nvPicPr>
        <p:blipFill>
          <a:blip r:embed="rId1"/>
          <a:stretch/>
        </p:blipFill>
        <p:spPr>
          <a:xfrm>
            <a:off x="1071720" y="285840"/>
            <a:ext cx="2714400" cy="2066760"/>
          </a:xfrm>
          <a:prstGeom prst="rect">
            <a:avLst/>
          </a:prstGeom>
          <a:ln w="0">
            <a:noFill/>
          </a:ln>
        </p:spPr>
      </p:pic>
      <p:sp>
        <p:nvSpPr>
          <p:cNvPr id="774" name="Прямоугольник 6"/>
          <p:cNvSpPr/>
          <p:nvPr/>
        </p:nvSpPr>
        <p:spPr>
          <a:xfrm>
            <a:off x="285840" y="242892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Мне очень понравилось, я всё понял, у меня всё полу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Рисунок 3" descr="19.gif"/>
          <p:cNvPicPr/>
          <p:nvPr/>
        </p:nvPicPr>
        <p:blipFill>
          <a:blip r:embed="rId2"/>
          <a:stretch/>
        </p:blipFill>
        <p:spPr>
          <a:xfrm>
            <a:off x="5857920" y="42876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776" name="Прямоугольник 10"/>
          <p:cNvSpPr/>
          <p:nvPr/>
        </p:nvSpPr>
        <p:spPr>
          <a:xfrm>
            <a:off x="5715000" y="2357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Я узнал ново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4" descr="13.gif"/>
          <p:cNvPicPr/>
          <p:nvPr/>
        </p:nvPicPr>
        <p:blipFill>
          <a:blip r:embed="rId3"/>
          <a:stretch/>
        </p:blipFill>
        <p:spPr>
          <a:xfrm>
            <a:off x="3714840" y="2857680"/>
            <a:ext cx="1595520" cy="1595160"/>
          </a:xfrm>
          <a:prstGeom prst="rect">
            <a:avLst/>
          </a:prstGeom>
          <a:ln w="0">
            <a:noFill/>
          </a:ln>
        </p:spPr>
      </p:pic>
      <p:sp>
        <p:nvSpPr>
          <p:cNvPr id="778" name="Прямоугольник 16"/>
          <p:cNvSpPr/>
          <p:nvPr/>
        </p:nvSpPr>
        <p:spPr>
          <a:xfrm>
            <a:off x="4367160" y="5786280"/>
            <a:ext cx="34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 меня ничего не получи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11"/>
          <p:cNvSpPr/>
          <p:nvPr/>
        </p:nvSpPr>
        <p:spPr>
          <a:xfrm>
            <a:off x="357120" y="3429000"/>
            <a:ext cx="3000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13"/>
          <p:cNvSpPr/>
          <p:nvPr/>
        </p:nvSpPr>
        <p:spPr>
          <a:xfrm>
            <a:off x="2357280" y="457200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У меня не всё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11"/>
              <p:cNvSpPr txBox="1"/>
              <p:nvPr/>
            </p:nvSpPr>
            <p:spPr>
              <a:xfrm>
                <a:off x="0" y="6281640"/>
                <a:ext cx="19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2"/>
              <p:cNvSpPr txBox="1"/>
              <p:nvPr/>
            </p:nvSpPr>
            <p:spPr>
              <a:xfrm>
                <a:off x="1908000" y="6281640"/>
                <a:ext cx="10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13"/>
              <p:cNvSpPr txBox="1"/>
              <p:nvPr/>
            </p:nvSpPr>
            <p:spPr>
              <a:xfrm>
                <a:off x="2987640" y="628164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14"/>
              <p:cNvSpPr txBox="1"/>
              <p:nvPr/>
            </p:nvSpPr>
            <p:spPr>
              <a:xfrm>
                <a:off x="4140360" y="6281640"/>
                <a:ext cx="187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15"/>
              <p:cNvSpPr txBox="1"/>
              <p:nvPr/>
            </p:nvSpPr>
            <p:spPr>
              <a:xfrm>
                <a:off x="6012000" y="6281640"/>
                <a:ext cx="136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16"/>
              <p:cNvSpPr txBox="1"/>
              <p:nvPr/>
            </p:nvSpPr>
            <p:spPr>
              <a:xfrm>
                <a:off x="7380360" y="6281640"/>
                <a:ext cx="17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937800" y="252000"/>
            <a:ext cx="7916760" cy="54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450720" algn="ctr">
              <a:spcBef>
                <a:spcPts val="7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0720" algn="ctr">
              <a:spcBef>
                <a:spcPts val="7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ук так много на земле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всех – своя тематика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о есть одна из них милей, 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овётся математикой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ней не бывает скользких мест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ё строго в ней доказано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с нею движется прогресс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этим нам всё сказ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Picture 22" descr=""/>
          <p:cNvPicPr/>
          <p:nvPr/>
        </p:nvPicPr>
        <p:blipFill>
          <a:blip r:embed="rId1"/>
          <a:stretch/>
        </p:blipFill>
        <p:spPr>
          <a:xfrm>
            <a:off x="1071720" y="4724280"/>
            <a:ext cx="190800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Text Box 4" descr=""/>
          <p:cNvPicPr/>
          <p:nvPr/>
        </p:nvPicPr>
        <p:blipFill>
          <a:blip r:embed="rId1"/>
          <a:stretch/>
        </p:blipFill>
        <p:spPr>
          <a:xfrm>
            <a:off x="-360360" y="0"/>
            <a:ext cx="9864720" cy="55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4" name="Object 2"/>
              <p:cNvSpPr txBox="1"/>
              <p:nvPr/>
            </p:nvSpPr>
            <p:spPr>
              <a:xfrm>
                <a:off x="1071720" y="2000160"/>
                <a:ext cx="2214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3"/>
              <p:cNvSpPr txBox="1"/>
              <p:nvPr/>
            </p:nvSpPr>
            <p:spPr>
              <a:xfrm>
                <a:off x="4500720" y="2143080"/>
                <a:ext cx="3429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4"/>
              <p:cNvSpPr txBox="1"/>
              <p:nvPr/>
            </p:nvSpPr>
            <p:spPr>
              <a:xfrm>
                <a:off x="6572160" y="1143000"/>
                <a:ext cx="1868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6"/>
              <p:cNvSpPr txBox="1"/>
              <p:nvPr/>
            </p:nvSpPr>
            <p:spPr>
              <a:xfrm>
                <a:off x="571680" y="3214800"/>
                <a:ext cx="2557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7"/>
              <p:cNvSpPr txBox="1"/>
              <p:nvPr/>
            </p:nvSpPr>
            <p:spPr>
              <a:xfrm>
                <a:off x="4071960" y="2928960"/>
                <a:ext cx="4286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Object 8"/>
              <p:cNvSpPr txBox="1"/>
              <p:nvPr/>
            </p:nvSpPr>
            <p:spPr>
              <a:xfrm>
                <a:off x="1214280" y="5643720"/>
                <a:ext cx="18147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9"/>
              <p:cNvSpPr txBox="1"/>
              <p:nvPr/>
            </p:nvSpPr>
            <p:spPr>
              <a:xfrm>
                <a:off x="4857840" y="4286160"/>
                <a:ext cx="40003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10"/>
              <p:cNvSpPr txBox="1"/>
              <p:nvPr/>
            </p:nvSpPr>
            <p:spPr>
              <a:xfrm>
                <a:off x="5786280" y="5572080"/>
                <a:ext cx="17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Object 11"/>
              <p:cNvSpPr txBox="1"/>
              <p:nvPr/>
            </p:nvSpPr>
            <p:spPr>
              <a:xfrm>
                <a:off x="428760" y="4572000"/>
                <a:ext cx="4214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12"/>
              <p:cNvSpPr txBox="1"/>
              <p:nvPr/>
            </p:nvSpPr>
            <p:spPr>
              <a:xfrm>
                <a:off x="857160" y="857160"/>
                <a:ext cx="4032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28760" y="1500120"/>
            <a:ext cx="8183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4" descr="dd36efffaaed"/>
          <p:cNvPicPr/>
          <p:nvPr/>
        </p:nvPicPr>
        <p:blipFill>
          <a:blip r:embed="rId1"/>
          <a:stretch/>
        </p:blipFill>
        <p:spPr>
          <a:xfrm>
            <a:off x="500040" y="3357720"/>
            <a:ext cx="2500200" cy="30002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4" descr="Рисунок15"/>
          <p:cNvPicPr/>
          <p:nvPr/>
        </p:nvPicPr>
        <p:blipFill>
          <a:blip r:embed="rId2"/>
          <a:stretch/>
        </p:blipFill>
        <p:spPr>
          <a:xfrm>
            <a:off x="6643800" y="3000240"/>
            <a:ext cx="21574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5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8" dur="2000" fill="hold"/>
                                        <p:tgtEl>
                                          <p:spTgt spid="7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0" fill="hold"/>
                                        <p:tgtEl>
                                          <p:spTgt spid="7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-360" y="1428840"/>
            <a:ext cx="8929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41560" indent="-241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формулы сокращенного умн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йте треугольник Паск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едите в степень (а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-241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одить в квадрат сумму пяти слагаемых (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b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d +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Вычислите: </a:t>
            </a:r>
            <a:r>
              <a:rPr b="1" lang="ru-RU" sz="3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19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; 48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Lucida Console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6. Найди квадрат вы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а) (а – х + у)</a:t>
            </a:r>
            <a:r>
              <a:rPr b="1" lang="ru-RU" sz="3200" spc="-1" strike="noStrike" baseline="30000">
                <a:solidFill>
                  <a:srgbClr val="800080"/>
                </a:solidFill>
                <a:latin typeface="Calibri"/>
              </a:rPr>
              <a:t>2                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б) (а –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– с)</a:t>
            </a:r>
            <a:r>
              <a:rPr b="1" lang="ru-RU" sz="3200" spc="-1" strike="noStrike" baseline="30000">
                <a:solidFill>
                  <a:srgbClr val="80008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1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0" y="6281640"/>
                <a:ext cx="19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5"/>
              <p:cNvSpPr txBox="1"/>
              <p:nvPr/>
            </p:nvSpPr>
            <p:spPr>
              <a:xfrm>
                <a:off x="1908000" y="6281640"/>
                <a:ext cx="10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6"/>
              <p:cNvSpPr txBox="1"/>
              <p:nvPr/>
            </p:nvSpPr>
            <p:spPr>
              <a:xfrm>
                <a:off x="2987640" y="628164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7"/>
              <p:cNvSpPr txBox="1"/>
              <p:nvPr/>
            </p:nvSpPr>
            <p:spPr>
              <a:xfrm>
                <a:off x="4140360" y="6281640"/>
                <a:ext cx="187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8"/>
              <p:cNvSpPr txBox="1"/>
              <p:nvPr/>
            </p:nvSpPr>
            <p:spPr>
              <a:xfrm>
                <a:off x="6012000" y="6281640"/>
                <a:ext cx="136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9"/>
              <p:cNvSpPr txBox="1"/>
              <p:nvPr/>
            </p:nvSpPr>
            <p:spPr>
              <a:xfrm>
                <a:off x="7380360" y="6281640"/>
                <a:ext cx="17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1" name="Picture 4" descr="Рисунок15"/>
          <p:cNvPicPr/>
          <p:nvPr/>
        </p:nvPicPr>
        <p:blipFill>
          <a:blip r:embed="rId1"/>
          <a:stretch/>
        </p:blipFill>
        <p:spPr>
          <a:xfrm>
            <a:off x="7215120" y="4000680"/>
            <a:ext cx="151452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3"/>
          <p:cNvGrpSpPr/>
          <p:nvPr/>
        </p:nvGrpSpPr>
        <p:grpSpPr>
          <a:xfrm>
            <a:off x="4038480" y="2743200"/>
            <a:ext cx="4953240" cy="1221840"/>
            <a:chOff x="4038480" y="2743200"/>
            <a:chExt cx="4953240" cy="1221840"/>
          </a:xfrm>
        </p:grpSpPr>
        <p:sp>
          <p:nvSpPr>
            <p:cNvPr id="803" name="Text Box 4"/>
            <p:cNvSpPr/>
            <p:nvPr/>
          </p:nvSpPr>
          <p:spPr>
            <a:xfrm>
              <a:off x="6705720" y="27432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00"/>
                  </a:solidFill>
                  <a:latin typeface="Arial"/>
                </a:rPr>
                <a:t>Довольна оцен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5"/>
            <p:cNvSpPr/>
            <p:nvPr/>
          </p:nvSpPr>
          <p:spPr>
            <a:xfrm>
              <a:off x="4038480" y="35053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</a:rPr>
                <a:t>Было скуч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"/>
          <p:cNvGrpSpPr/>
          <p:nvPr/>
        </p:nvGrpSpPr>
        <p:grpSpPr>
          <a:xfrm>
            <a:off x="0" y="2643120"/>
            <a:ext cx="8458200" cy="3897360"/>
            <a:chOff x="0" y="2643120"/>
            <a:chExt cx="8458200" cy="3897360"/>
          </a:xfrm>
        </p:grpSpPr>
        <p:sp>
          <p:nvSpPr>
            <p:cNvPr id="806" name="Text Box 7"/>
            <p:cNvSpPr/>
            <p:nvPr/>
          </p:nvSpPr>
          <p:spPr>
            <a:xfrm>
              <a:off x="0" y="44956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Мне было интерес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"/>
            <p:cNvSpPr/>
            <p:nvPr/>
          </p:nvSpPr>
          <p:spPr>
            <a:xfrm>
              <a:off x="4038480" y="42670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Доволен оцен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9"/>
            <p:cNvSpPr/>
            <p:nvPr/>
          </p:nvSpPr>
          <p:spPr>
            <a:xfrm>
              <a:off x="3071880" y="264312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Здор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"/>
            <p:cNvSpPr/>
            <p:nvPr/>
          </p:nvSpPr>
          <p:spPr>
            <a:xfrm>
              <a:off x="6172200" y="57150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Arial"/>
                </a:rPr>
                <a:t>Оценка урока - отлич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1"/>
          <p:cNvGrpSpPr/>
          <p:nvPr/>
        </p:nvGrpSpPr>
        <p:grpSpPr>
          <a:xfrm>
            <a:off x="304920" y="2895480"/>
            <a:ext cx="5181480" cy="3202920"/>
            <a:chOff x="304920" y="2895480"/>
            <a:chExt cx="5181480" cy="3202920"/>
          </a:xfrm>
        </p:grpSpPr>
        <p:sp>
          <p:nvSpPr>
            <p:cNvPr id="811" name="Text Box 12"/>
            <p:cNvSpPr/>
            <p:nvPr/>
          </p:nvSpPr>
          <p:spPr>
            <a:xfrm>
              <a:off x="304920" y="2895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cc"/>
                  </a:solidFill>
                  <a:latin typeface="Arial"/>
                </a:rPr>
                <a:t>Урок понравил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3"/>
            <p:cNvSpPr/>
            <p:nvPr/>
          </p:nvSpPr>
          <p:spPr>
            <a:xfrm>
              <a:off x="1981080" y="36576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35faa"/>
                  </a:solidFill>
                  <a:latin typeface="Arial"/>
                </a:rPr>
                <a:t>Есть вопро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14"/>
            <p:cNvSpPr/>
            <p:nvPr/>
          </p:nvSpPr>
          <p:spPr>
            <a:xfrm>
              <a:off x="24382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e1d02"/>
                  </a:solidFill>
                  <a:latin typeface="Arial"/>
                </a:rPr>
                <a:t>Я 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5"/>
            <p:cNvSpPr/>
            <p:nvPr/>
          </p:nvSpPr>
          <p:spPr>
            <a:xfrm>
              <a:off x="3200400" y="5638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b0105c"/>
                  </a:solidFill>
                  <a:latin typeface="Arial"/>
                </a:rPr>
                <a:t>Легкая т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16"/>
          <p:cNvGrpSpPr/>
          <p:nvPr/>
        </p:nvGrpSpPr>
        <p:grpSpPr>
          <a:xfrm>
            <a:off x="838080" y="2000160"/>
            <a:ext cx="8153640" cy="2482920"/>
            <a:chOff x="838080" y="2000160"/>
            <a:chExt cx="8153640" cy="2482920"/>
          </a:xfrm>
        </p:grpSpPr>
        <p:sp>
          <p:nvSpPr>
            <p:cNvPr id="816" name="Text Box 17"/>
            <p:cNvSpPr/>
            <p:nvPr/>
          </p:nvSpPr>
          <p:spPr>
            <a:xfrm>
              <a:off x="838080" y="20574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ажная т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8"/>
            <p:cNvSpPr/>
            <p:nvPr/>
          </p:nvSpPr>
          <p:spPr>
            <a:xfrm>
              <a:off x="4857840" y="2000160"/>
              <a:ext cx="264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Оценка урока - хорош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9"/>
            <p:cNvSpPr/>
            <p:nvPr/>
          </p:nvSpPr>
          <p:spPr>
            <a:xfrm>
              <a:off x="6019920" y="36576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Ничего особен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20"/>
          <p:cNvGrpSpPr/>
          <p:nvPr/>
        </p:nvGrpSpPr>
        <p:grpSpPr>
          <a:xfrm>
            <a:off x="304920" y="2666880"/>
            <a:ext cx="8458200" cy="3645000"/>
            <a:chOff x="304920" y="2666880"/>
            <a:chExt cx="8458200" cy="3645000"/>
          </a:xfrm>
        </p:grpSpPr>
        <p:sp>
          <p:nvSpPr>
            <p:cNvPr id="820" name="Text Box 21"/>
            <p:cNvSpPr/>
            <p:nvPr/>
          </p:nvSpPr>
          <p:spPr>
            <a:xfrm>
              <a:off x="304920" y="54864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Ничего не поня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22"/>
            <p:cNvSpPr/>
            <p:nvPr/>
          </p:nvSpPr>
          <p:spPr>
            <a:xfrm>
              <a:off x="4572000" y="2666880"/>
              <a:ext cx="22860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3"/>
            <p:cNvSpPr/>
            <p:nvPr/>
          </p:nvSpPr>
          <p:spPr>
            <a:xfrm>
              <a:off x="6477120" y="4724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5a50"/>
                  </a:solidFill>
                  <a:latin typeface="Arial"/>
                </a:rPr>
                <a:t>Узнал(а) много нов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24"/>
            <p:cNvSpPr/>
            <p:nvPr/>
          </p:nvSpPr>
          <p:spPr>
            <a:xfrm>
              <a:off x="2362320" y="266688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4"/>
          <p:cNvSpPr/>
          <p:nvPr/>
        </p:nvSpPr>
        <p:spPr>
          <a:xfrm>
            <a:off x="0" y="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Comic Sans MS"/>
              </a:rPr>
              <a:t>Итог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d5a50"/>
                </a:solidFill>
                <a:uFillTx/>
                <a:latin typeface="Times New Roman"/>
                <a:ea typeface="Times New Roman"/>
              </a:rPr>
              <a:t>Выбе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7e1d02"/>
                </a:solidFill>
                <a:uFillTx/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0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3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79280" y="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Формулы сокращённого у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3"/>
              <p:cNvSpPr txBox="1"/>
              <p:nvPr/>
            </p:nvSpPr>
            <p:spPr>
              <a:xfrm>
                <a:off x="3429000" y="1357200"/>
                <a:ext cx="5429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4"/>
              <p:cNvSpPr txBox="1"/>
              <p:nvPr/>
            </p:nvSpPr>
            <p:spPr>
              <a:xfrm>
                <a:off x="571680" y="1357200"/>
                <a:ext cx="2857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8"/>
              <p:cNvSpPr txBox="1"/>
              <p:nvPr/>
            </p:nvSpPr>
            <p:spPr>
              <a:xfrm>
                <a:off x="571680" y="5500800"/>
                <a:ext cx="2857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9"/>
              <p:cNvSpPr txBox="1"/>
              <p:nvPr/>
            </p:nvSpPr>
            <p:spPr>
              <a:xfrm>
                <a:off x="571680" y="4429080"/>
                <a:ext cx="2857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0"/>
              <p:cNvSpPr txBox="1"/>
              <p:nvPr/>
            </p:nvSpPr>
            <p:spPr>
              <a:xfrm>
                <a:off x="3500280" y="5572080"/>
                <a:ext cx="5429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3500280" y="4572000"/>
                <a:ext cx="5429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12"/>
              <p:cNvSpPr txBox="1"/>
              <p:nvPr/>
            </p:nvSpPr>
            <p:spPr>
              <a:xfrm>
                <a:off x="3429000" y="2357280"/>
                <a:ext cx="5500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13"/>
              <p:cNvSpPr txBox="1"/>
              <p:nvPr/>
            </p:nvSpPr>
            <p:spPr>
              <a:xfrm>
                <a:off x="571680" y="3500280"/>
                <a:ext cx="2786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6"/>
              <p:cNvSpPr txBox="1"/>
              <p:nvPr/>
            </p:nvSpPr>
            <p:spPr>
              <a:xfrm>
                <a:off x="571680" y="2428920"/>
                <a:ext cx="2786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7"/>
              <p:cNvSpPr txBox="1"/>
              <p:nvPr/>
            </p:nvSpPr>
            <p:spPr>
              <a:xfrm>
                <a:off x="3429000" y="3500280"/>
                <a:ext cx="550080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Urok_Rachinskogo_1"/>
          <p:cNvPicPr/>
          <p:nvPr/>
        </p:nvPicPr>
        <p:blipFill>
          <a:blip r:embed="rId1"/>
          <a:stretch/>
        </p:blipFill>
        <p:spPr>
          <a:xfrm>
            <a:off x="480960" y="1000080"/>
            <a:ext cx="4448160" cy="5553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7"/>
          <p:cNvSpPr/>
          <p:nvPr/>
        </p:nvSpPr>
        <p:spPr>
          <a:xfrm>
            <a:off x="5292720" y="1042920"/>
            <a:ext cx="33829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Н. Богданова - Бельског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«Устный счё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5435640" y="4384800"/>
            <a:ext cx="34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Оркестр Поля Мориа - Говорите тише.mp3" descr=""/>
          <p:cNvPicPr/>
          <p:nvPr/>
        </p:nvPicPr>
        <p:blipFill>
          <a:blip r:embed="rId2"/>
          <a:stretch/>
        </p:blipFill>
        <p:spPr>
          <a:xfrm>
            <a:off x="51436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56640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1403280" y="549360"/>
            <a:ext cx="6337440" cy="718920"/>
          </a:xfrm>
          <a:prstGeom prst="rect">
            <a:avLst/>
          </a:prstGeom>
          <a:solidFill>
            <a:srgbClr val="e6b9b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2d44"/>
                </a:solidFill>
                <a:latin typeface="Calibri"/>
                <a:ea typeface="Arial"/>
              </a:rPr>
              <a:t>Найти соответств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128600" y="1484280"/>
          <a:ext cx="6972480" cy="3888000"/>
        </p:xfrm>
        <a:graphic>
          <a:graphicData uri="http://schemas.openxmlformats.org/drawingml/2006/table">
            <a:tbl>
              <a:tblPr/>
              <a:tblGrid>
                <a:gridCol w="1295640"/>
                <a:gridCol w="1906560"/>
                <a:gridCol w="2170080"/>
                <a:gridCol w="1600200"/>
              </a:tblGrid>
              <a:tr h="689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+3)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x²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²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x²-40xy+25y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x-3)(2x+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-4)(x+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-18x+x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y+6x)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x-5y)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²+6x+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x²-49y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-x)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y²+36yx+36x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x-7y)(5x+7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523880" y="5621400"/>
          <a:ext cx="6096240" cy="9763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2" name="TextBox 9"/>
          <p:cNvSpPr/>
          <p:nvPr/>
        </p:nvSpPr>
        <p:spPr>
          <a:xfrm>
            <a:off x="1763640" y="61088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2627280" y="610884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3"/>
          <p:cNvSpPr/>
          <p:nvPr/>
        </p:nvSpPr>
        <p:spPr>
          <a:xfrm>
            <a:off x="3492360" y="61088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4"/>
          <p:cNvSpPr/>
          <p:nvPr/>
        </p:nvSpPr>
        <p:spPr>
          <a:xfrm>
            <a:off x="4356000" y="61088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5"/>
          <p:cNvSpPr/>
          <p:nvPr/>
        </p:nvSpPr>
        <p:spPr>
          <a:xfrm>
            <a:off x="5292720" y="61088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6"/>
          <p:cNvSpPr/>
          <p:nvPr/>
        </p:nvSpPr>
        <p:spPr>
          <a:xfrm>
            <a:off x="6103800" y="61088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7"/>
          <p:cNvSpPr/>
          <p:nvPr/>
        </p:nvSpPr>
        <p:spPr>
          <a:xfrm>
            <a:off x="6967440" y="611496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108000" y="1341360"/>
            <a:ext cx="8759880" cy="532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Рисунок 2" descr=""/>
          <p:cNvPicPr/>
          <p:nvPr/>
        </p:nvPicPr>
        <p:blipFill>
          <a:blip r:embed="rId1"/>
          <a:stretch/>
        </p:blipFill>
        <p:spPr>
          <a:xfrm>
            <a:off x="268200" y="1484280"/>
            <a:ext cx="3943440" cy="47484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2"/>
          <p:cNvSpPr/>
          <p:nvPr/>
        </p:nvSpPr>
        <p:spPr>
          <a:xfrm>
            <a:off x="457200" y="477720"/>
            <a:ext cx="8229600" cy="720720"/>
          </a:xfrm>
          <a:prstGeom prst="rect">
            <a:avLst/>
          </a:prstGeom>
          <a:solidFill>
            <a:srgbClr val="e6b9b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2d44"/>
                </a:solidFill>
                <a:latin typeface="Calibri"/>
                <a:ea typeface="Arial"/>
              </a:rPr>
              <a:t>ДИОФАНТ АЛЕКСАНДРИ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4327560" y="1341360"/>
            <a:ext cx="4540320" cy="527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давно, в Древней Греции жили и работали замечательные ученые-математики, которые всю свою жизнь отдали служению науке. В то время все алгебраические утверждения выражали в геомет-рической фор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м ученым, который отказался от геометрических способов выражения и перешел к алгебраическим уравнениям, был древнегреческий ученый-математик, живший в 3 веке до нашей эр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офант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явились формулы, которые стали называться формулами сокращенного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3"/>
          <p:cNvSpPr/>
          <p:nvPr/>
        </p:nvSpPr>
        <p:spPr>
          <a:xfrm>
            <a:off x="457200" y="3124080"/>
            <a:ext cx="817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(     ±    )²=    ²±2    ∙    +   ²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6"/>
          <p:cNvSpPr/>
          <p:nvPr/>
        </p:nvSpPr>
        <p:spPr>
          <a:xfrm>
            <a:off x="5410080" y="3200400"/>
            <a:ext cx="63360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7"/>
          <p:cNvSpPr/>
          <p:nvPr/>
        </p:nvSpPr>
        <p:spPr>
          <a:xfrm>
            <a:off x="1981080" y="3276720"/>
            <a:ext cx="722520" cy="533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3754440" y="3276720"/>
            <a:ext cx="63324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"/>
          <p:cNvSpPr/>
          <p:nvPr/>
        </p:nvSpPr>
        <p:spPr>
          <a:xfrm>
            <a:off x="6248520" y="3200400"/>
            <a:ext cx="723960" cy="60948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3"/>
          <p:cNvSpPr/>
          <p:nvPr/>
        </p:nvSpPr>
        <p:spPr>
          <a:xfrm>
            <a:off x="7391520" y="3200400"/>
            <a:ext cx="723960" cy="60948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23"/>
          <p:cNvSpPr/>
          <p:nvPr/>
        </p:nvSpPr>
        <p:spPr>
          <a:xfrm>
            <a:off x="838080" y="3200400"/>
            <a:ext cx="63360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4"/>
          <p:cNvSpPr/>
          <p:nvPr/>
        </p:nvSpPr>
        <p:spPr>
          <a:xfrm>
            <a:off x="457200" y="-203400"/>
            <a:ext cx="7732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50b3d"/>
                </a:solidFill>
                <a:uFillTx/>
                <a:latin typeface="Times New Roman CYR"/>
                <a:ea typeface="Times New Roman"/>
              </a:rPr>
              <a:t>Геометрическая интерпре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50b3d"/>
                </a:solidFill>
                <a:uFillTx/>
                <a:latin typeface="Times New Roman CYR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750b3d"/>
                </a:solidFill>
                <a:uFillTx/>
                <a:latin typeface="Times New Roman CYR"/>
                <a:ea typeface="Times New Roman"/>
              </a:rPr>
              <a:t>формулы квадрата су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(а +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b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 = 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 + 2ab + 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tempShape"/>
          <p:cNvPicPr/>
          <p:nvPr/>
        </p:nvPicPr>
        <p:blipFill>
          <a:blip r:embed="rId2"/>
          <a:stretch/>
        </p:blipFill>
        <p:spPr>
          <a:xfrm>
            <a:off x="122400" y="2349360"/>
            <a:ext cx="8839080" cy="2808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http://hdwallnpics.com/wp-content/gallery/3d-people-images/18.jpg"/>
          <p:cNvPicPr/>
          <p:nvPr/>
        </p:nvPicPr>
        <p:blipFill>
          <a:blip r:embed="rId3"/>
          <a:stretch/>
        </p:blipFill>
        <p:spPr>
          <a:xfrm>
            <a:off x="2703600" y="5157720"/>
            <a:ext cx="4289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28:21Z</dcterms:created>
  <dc:creator>Администратор</dc:creator>
  <dc:description/>
  <dc:language>en-US</dc:language>
  <cp:lastModifiedBy>Учетная запись Майкрософт</cp:lastModifiedBy>
  <cp:lastPrinted>2023-03-15T05:19:47Z</cp:lastPrinted>
  <dcterms:modified xsi:type="dcterms:W3CDTF">2023-03-15T08:34:05Z</dcterms:modified>
  <cp:revision>271</cp:revision>
  <dc:subject/>
  <dc:title>Тренажер №4 “Формулы сокращенного умножения”</dc:title>
</cp:coreProperties>
</file>